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5FF-9423-4B52-A408-B5D927DB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D53E-B62A-4535-83E0-D4F30AD1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5AEE-F13C-430F-885E-2E0023D4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5EF-5392-4B2A-AF00-F67A785E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8616-1FDC-43DE-B26C-3327E21E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E101-A521-4914-B66C-EABDE44C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324-A7B8-4749-ACA0-235E0684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2EF-C833-487B-AD25-989DF7AF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90A-CC77-46C4-8395-D944F5D7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7F9-D6B6-4D69-894C-8F9F8B5A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CB8-6B52-484C-AECD-08C2A10C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F0E-C16C-4A4E-B7BC-0E2B7479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E9CD-B0EA-49AC-A748-4CC984DAB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mating the effect of thrombolytics for use in a mode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mbolytics: what are the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group has to complete a table by extracting relevant pieces of evidence from publishe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have at your disposal the following pap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ess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ar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2;87;308-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igent (ISIS-2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MJ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8;316;1337-134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the table, justify any assumption you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data by 10 year age-groups and s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interested in short term mortality (30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1649520"/>
          <a:ext cx="8229600" cy="3558960"/>
        </p:xfrm>
        <a:graphic>
          <a:graphicData uri="http://schemas.openxmlformats.org/drawingml/2006/table">
            <a:tbl>
              <a:tblPr/>
              <a:tblGrid>
                <a:gridCol w="1881360"/>
                <a:gridCol w="1663560"/>
                <a:gridCol w="1550880"/>
                <a:gridCol w="1747800"/>
                <a:gridCol w="138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 est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-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mbolitics, AMI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000080"/>
            <a:ext cx="7467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960" y="785880"/>
            <a:ext cx="8126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0"/>
          <a:ext cx="8229600" cy="6594480"/>
        </p:xfrm>
        <a:graphic>
          <a:graphicData uri="http://schemas.openxmlformats.org/drawingml/2006/table">
            <a:tbl>
              <a:tblPr/>
              <a:tblGrid>
                <a:gridCol w="488880"/>
                <a:gridCol w="2198880"/>
                <a:gridCol w="1112760"/>
                <a:gridCol w="2104920"/>
                <a:gridCol w="1214640"/>
                <a:gridCol w="620640"/>
                <a:gridCol w="488880"/>
              </a:tblGrid>
              <a:tr h="2156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DATED NOV 2006 latest treatment effectiveness data from USA model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cute myocardial infarction (ACUTE TREATMENT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ess 2002, updated F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rombolysis , RRR, 30 day morta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i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 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int estim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65 -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65 to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3:08:52Z</dcterms:created>
  <dc:creator>Martin O'Flaherty</dc:creator>
  <dc:description/>
  <dc:language>en-US</dc:language>
  <cp:lastModifiedBy>Martin O'Flaherty</cp:lastModifiedBy>
  <dcterms:modified xsi:type="dcterms:W3CDTF">2007-06-21T08:55:50Z</dcterms:modified>
  <cp:revision>3</cp:revision>
  <dc:subject/>
  <dc:title>Estimating the effect of thrombolytics for use in a model </dc:title>
</cp:coreProperties>
</file>